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D84C-D27B-4D52-BD8C-3A5FA4FA1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C48-ACA6-42B9-93EE-D3F22E51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714C-B7CE-4605-A1CD-72F52AE2A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9496-7573-49EC-93C6-67EAA11EE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8F4D-2727-44E1-B5F0-C2595B77D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31E4-A1BE-49C2-B86E-0D5B6F75D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CF20-1F9F-4BFB-84BC-CD2CA7DCD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C80A-A3CA-4E28-A287-B9BD0EECF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C53F-7524-4CA3-8D84-7A9D0A834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384F-675A-4344-BB97-6017C6A4B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19D2-C306-486F-A10A-7537933EB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AD89-78DE-4D81-8BA0-BEE0E84A6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FFDE-8492-4921-A93F-CA7E15F43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11C8-005D-48EC-B201-1BCA9F993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172-DEC8-4E29-A9D5-B1167AF7F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8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A83096-7942-4FED-AB40-C580770C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P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anuary 8, 2008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MO PP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Rectangle 4143"/>
          <p:cNvSpPr/>
          <p:nvPr/>
        </p:nvSpPr>
        <p:spPr>
          <a:xfrm>
            <a:off x="762120" y="5486400"/>
            <a:ext cx="228600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y-over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n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44"/>
          <p:cNvSpPr/>
          <p:nvPr/>
        </p:nvSpPr>
        <p:spPr>
          <a:xfrm>
            <a:off x="3200400" y="5486400"/>
            <a:ext cx="228600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45"/>
          <p:cNvSpPr/>
          <p:nvPr/>
        </p:nvSpPr>
        <p:spPr>
          <a:xfrm>
            <a:off x="5638680" y="5486400"/>
            <a:ext cx="22860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01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planned 2006 Carry-Over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256"/>
          <p:cNvSpPr/>
          <p:nvPr/>
        </p:nvSpPr>
        <p:spPr>
          <a:xfrm>
            <a:off x="152280" y="220968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137_02 Moved to “Closing” expected to Close 02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77_01 – No changes, expected to implement and move to Closing 02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267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-70048_01 MV90xi System Upgrade Project moved to “Executio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458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E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Picture 27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8"/>
          <p:cNvSpPr/>
          <p:nvPr/>
        </p:nvSpPr>
        <p:spPr>
          <a:xfrm>
            <a:off x="152280" y="2895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tatus change on thes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21/200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762120"/>
          <a:ext cx="8229600" cy="4668840"/>
        </p:xfrm>
        <a:graphic>
          <a:graphicData uri="http://schemas.openxmlformats.org/drawingml/2006/table">
            <a:tbl>
              <a:tblPr/>
              <a:tblGrid>
                <a:gridCol w="2468520"/>
                <a:gridCol w="973080"/>
                <a:gridCol w="4788000"/>
              </a:tblGrid>
              <a:tr h="45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$1.33M to $1.5M to reflect projec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ange of $0M –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747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0k due to carry-over amounts into 2008 for current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77k resulting from projects running under 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9k due to budget cor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30k due to new project initiation (part of give ba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 will need to evaluate when to release the funds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971800" y="1981080"/>
          <a:ext cx="602928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60292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dget Variance Allo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52280" y="838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ow is the updated view of under spend categories.  These categories will be monitored throughout the year to assess potential reallo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81400" y="1503360"/>
            <a:ext cx="252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836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/RO Budget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; $ thous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657600" y="2286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8680" y="4921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543800" y="4921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181480" y="3733920"/>
            <a:ext cx="1828800" cy="228600"/>
          </a:xfrm>
          <a:prstGeom prst="wedgeRectCallout">
            <a:avLst>
              <a:gd name="adj1" fmla="val -97398"/>
              <a:gd name="adj2" fmla="val 262500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 Total = $7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657600" y="5410080"/>
            <a:ext cx="12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nc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5562720" y="5410080"/>
            <a:ext cx="12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7391520" y="5410080"/>
            <a:ext cx="12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28600" y="2286000"/>
            <a:ext cx="2514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, COPS, and RMS have all reviewed the MO-RO portfolio and acknowledged the release of $2.5M from the overall portfolio budget variance of approx. $2.5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4956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28600" y="43434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 Release of $74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, MO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8-01-03T17:51:53Z</dcterms:modified>
  <cp:revision>407</cp:revision>
  <dc:subject/>
  <dc:title>Role of Account Management at ERCOT</dc:title>
</cp:coreProperties>
</file>